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117440" y="837720"/>
            <a:ext cx="1076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7440" y="2611800"/>
            <a:ext cx="1076976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5880" y="227304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744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635880" y="2611800"/>
            <a:ext cx="525528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884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99880" y="227304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74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75884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399880" y="2611800"/>
            <a:ext cx="3467520" cy="30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498680" y="4838760"/>
            <a:ext cx="4368240" cy="88920"/>
            <a:chOff x="1498680" y="4838760"/>
            <a:chExt cx="4368240" cy="8892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498680" y="4876920"/>
              <a:ext cx="203148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3835080" y="4876560"/>
              <a:ext cx="203184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3530160" y="4838760"/>
              <a:ext cx="30456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50680" y="837720"/>
            <a:ext cx="113029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385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700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1056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41228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2438280"/>
            <a:ext cx="1242072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3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98680" y="2070000"/>
            <a:ext cx="10007280" cy="88920"/>
            <a:chOff x="1498680" y="2070000"/>
            <a:chExt cx="10007280" cy="8892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498680" y="210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6642000" y="210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6350040" y="207000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98680" y="4838760"/>
            <a:ext cx="10007280" cy="88920"/>
            <a:chOff x="1498680" y="4838760"/>
            <a:chExt cx="10007280" cy="889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1498680" y="487692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6642000" y="48765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6350040" y="483876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6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5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7440" y="2971440"/>
            <a:ext cx="1076976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socra.org/pdf/200308_Herbal_Medicine.pdf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english.peopledaily.com.cn/200604/06/eng20060406_256342.html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www.motherearthliving.com/mother-earth-living/germanys-rich-herbal-traditions.aspx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hyperlink" Target="http://recipes.howstuffworks.com/food-facts/culinary-herb-pictures.htm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images.yourdictionary.com/herbal-medicine" TargetMode="External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6075360" y="2660760"/>
            <a:ext cx="6019920" cy="4419360"/>
            <a:chOff x="6075360" y="2660760"/>
            <a:chExt cx="6019920" cy="44193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rcRect l="1073" t="2177" r="6486" b="559"/>
            <a:stretch/>
          </p:blipFill>
          <p:spPr>
            <a:xfrm>
              <a:off x="6367320" y="2927160"/>
              <a:ext cx="5461200" cy="38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"/>
            <a:stretch/>
          </p:blipFill>
          <p:spPr>
            <a:xfrm>
              <a:off x="6075360" y="2660760"/>
              <a:ext cx="6019920" cy="441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Traditional Medicine in Germany</a:t>
            </a:r>
            <a:endParaRPr b="0" lang="en-US" sz="48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By Noah Taylor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Quarter 3: Health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Reference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433a"/>
                </a:solidFill>
                <a:latin typeface="Hoefler Text"/>
              </a:rPr>
              <a:t>Websites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oefler Text"/>
                <a:hlinkClick r:id="rId4"/>
              </a:rPr>
              <a:t>http://www.socra.org/pdf/200308_Herbal_Medicine.pdf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oefler Text"/>
                <a:hlinkClick r:id="rId6"/>
              </a:rPr>
              <a:t>http://english.peopledaily.com.cn/200604/06/eng20060406_256342.html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oefler Text"/>
                <a:hlinkClick r:id="rId8"/>
              </a:rPr>
              <a:t>http://www.motherearthliving.com/mother-earth-living/germanys-rich-herbal-traditions.aspx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433a"/>
                </a:solidFill>
                <a:latin typeface="Hoefler Text"/>
              </a:rPr>
              <a:t>Photos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oefler Text"/>
                <a:hlinkClick r:id="rId11"/>
              </a:rPr>
              <a:t>http://recipes.howstuffworks.com/food-facts/culinary-herb-pictures.htm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oefler Text"/>
                <a:hlinkClick r:id="rId13"/>
              </a:rPr>
              <a:t>http://images.yourdictionary.com/herbal-medicine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5433a"/>
                </a:solidFill>
                <a:uFillTx/>
                <a:latin typeface="Hoefler Text"/>
              </a:rPr>
              <a:t>http://www.medicinenet.com/slideshow_pictures_acupuncture/article.htm</a:t>
            </a:r>
            <a:endParaRPr b="0" lang="en-US" sz="18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888840" y="2374920"/>
            <a:ext cx="11201400" cy="6642000"/>
            <a:chOff x="888840" y="2374920"/>
            <a:chExt cx="11201400" cy="6642000"/>
          </a:xfrm>
        </p:grpSpPr>
        <p:pic>
          <p:nvPicPr>
            <p:cNvPr id="571" name="" descr=""/>
            <p:cNvPicPr/>
            <p:nvPr/>
          </p:nvPicPr>
          <p:blipFill>
            <a:blip r:embed="rId2"/>
            <a:srcRect l="0" t="0" r="0" b="13294"/>
            <a:stretch/>
          </p:blipFill>
          <p:spPr>
            <a:xfrm>
              <a:off x="1180800" y="2654280"/>
              <a:ext cx="10642680" cy="601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3"/>
            <a:stretch/>
          </p:blipFill>
          <p:spPr>
            <a:xfrm>
              <a:off x="888840" y="2374920"/>
              <a:ext cx="11201400" cy="66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ulture Photo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History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raditional medicine is strong in Germany because it is considered orthodox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e first herbal publication by a woman was in Germany in the 14th century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ommission E was a committee in 1978 that screened the contents of herbal medicine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6388200" y="3625920"/>
            <a:ext cx="6121440" cy="4597200"/>
            <a:chOff x="6388200" y="3625920"/>
            <a:chExt cx="6121440" cy="459720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rcRect l="0" t="249" r="0" b="0"/>
            <a:stretch/>
          </p:blipFill>
          <p:spPr>
            <a:xfrm>
              <a:off x="6710400" y="3892320"/>
              <a:ext cx="5500800" cy="39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3"/>
            <a:stretch/>
          </p:blipFill>
          <p:spPr>
            <a:xfrm>
              <a:off x="6388200" y="3625920"/>
              <a:ext cx="6121440" cy="45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Herb Standarization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In 1978 Germany started a commission to classify the properties of herbs.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The objective was to standarized the contents of herbs sold by pharmaceutical companies.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Traditional Herb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“</a:t>
            </a: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Many people point to Germany</a:t>
            </a:r>
            <a:br>
              <a:rPr sz="3300"/>
            </a:b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as a model for the use of herbal medicines.”</a:t>
            </a:r>
            <a:r>
              <a:rPr b="0" lang="en-US" sz="3300" spc="-1" strike="noStrike" baseline="32000">
                <a:solidFill>
                  <a:srgbClr val="44443a"/>
                </a:solidFill>
                <a:latin typeface="Hoefler Text"/>
              </a:rPr>
              <a:t>(1)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Until 2002 Germany used kava-kava frequently, when liver toxicity was discovered as a result of using i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43a"/>
                </a:solidFill>
                <a:latin typeface="Hoefler Text"/>
              </a:rPr>
              <a:t>It was ambiguous as to whether it was the manufacturer’s fault or the herb’s.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Monograph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As a result of Commission E monographs for around 300 herbs exis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Mono grpahs in clude such information as: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Name of herb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Directions for use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Dosage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de effec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876240" y="2908440"/>
            <a:ext cx="5346720" cy="6032520"/>
            <a:chOff x="876240" y="2908440"/>
            <a:chExt cx="5346720" cy="603252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rcRect l="10219" t="237" r="30964" b="1726"/>
            <a:stretch/>
          </p:blipFill>
          <p:spPr>
            <a:xfrm>
              <a:off x="1168200" y="3175200"/>
              <a:ext cx="4788000" cy="54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3"/>
            <a:stretch/>
          </p:blipFill>
          <p:spPr>
            <a:xfrm>
              <a:off x="876240" y="2908440"/>
              <a:ext cx="5346720" cy="603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TCM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743880" y="267948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raditional Chinese medicine (TCM) is growing in popularity in Germay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German doctors integrate TCM with their western practice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TCM Integration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Many German doctors use different types of TCM in coincidence with their western techniques including: Acupuncture, Massage, and Guasha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One man in Germany who had retina detatchment was able to recognize faces after twenty sessions of acupuncture at a clinic in Essen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Many people go to TCM clincs in Germany to treat ailments that are “uncurable” by western standard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Question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How many treatments did the man with retina displacement recieve?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What was one of the types of information contained on a monograph?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answer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20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Name of herb, Directions for use, Dosage, or Side effec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